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9FE-358C-4CF6-A394-CF3E500A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2C5-897C-416E-A7F5-1DECD1CF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A24-222A-4BEB-A31B-2802894C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4C7-968F-43F6-99F0-D15B4D4E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843-B47E-4727-8FDD-346842D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AF1-D8AF-4ECE-8F16-1483369E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F44-CEA2-4083-81DB-D176378A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01F-B2DD-4711-8A4E-9ED7DC7A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2EB-4182-4DE1-81F3-5F694AD1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7E4-0D5C-48F2-95A8-B07386F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0A8-19F3-4D08-921A-54B35BC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FBC-9794-4112-9F1D-50DF23F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082D-FF29-4562-A41A-952B7C61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s and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ARE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85840" y="233676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are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find the area of the regio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ies under the cur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ee the figur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img003"/>
          <p:cNvPicPr/>
          <p:nvPr/>
        </p:nvPicPr>
        <p:blipFill>
          <a:blip r:embed="rId1"/>
          <a:stretch/>
        </p:blipFill>
        <p:spPr>
          <a:xfrm>
            <a:off x="1657440" y="4368960"/>
            <a:ext cx="3828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THE AREA UNDER A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0577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(partition) the 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 pieces (subintervals) of wid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intervals are: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. . . 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 Not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 . 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4267080" y="4419720"/>
                <a:ext cx="259092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0004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up area of right (left) rect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limit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es infinity to find true area under the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85800" y="2844720"/>
                <a:ext cx="43434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762120" y="7315200"/>
                <a:ext cx="392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2133720"/>
            <a:ext cx="634356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using left endpoints or right endpoints, we could take the height of the rectangle to be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    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sub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 These numbers are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sample 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us, the area can be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314880" y="3352680"/>
                <a:ext cx="3902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685800" y="5638680"/>
                <a:ext cx="50292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Δ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TAN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85840" y="23367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distance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find the distance traveled by an object during a certain time period if the velocity of the object is known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85840" y="2336760"/>
            <a:ext cx="628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ometer readings for a motorcycle at 12-second intervals are given in the table below.  Find two estimates for the distance traveled by the motorcycle for this 60-second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5334120"/>
          <a:ext cx="6858000" cy="3520800"/>
        </p:xfrm>
        <a:graphic>
          <a:graphicData uri="http://schemas.openxmlformats.org/drawingml/2006/table">
            <a:tbl>
              <a:tblPr/>
              <a:tblGrid>
                <a:gridCol w="1457280"/>
                <a:gridCol w="919080"/>
                <a:gridCol w="920880"/>
                <a:gridCol w="919080"/>
                <a:gridCol w="920880"/>
                <a:gridCol w="919080"/>
                <a:gridCol w="801720"/>
              </a:tblGrid>
              <a:tr h="1432440">
                <a:tc>
                  <a:txBody>
                    <a:bodyPr lIns="68760" rIns="68760" tIns="60840" bIns="60840" anchor="ctr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sec)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8360">
                <a:tc>
                  <a:txBody>
                    <a:bodyPr lIns="68760" rIns="68760" tIns="60840" bIns="60840" anchor="ctr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ft/sec)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ANCE TRAV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233676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an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aveled by an object with velocity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0" y="3962520"/>
                <a:ext cx="685800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1:32:02Z</dcterms:created>
  <dc:creator>Allen Fuller</dc:creator>
  <dc:description/>
  <dc:language>en-US</dc:language>
  <cp:lastModifiedBy>sraja</cp:lastModifiedBy>
  <dcterms:modified xsi:type="dcterms:W3CDTF">2011-02-11T15:53:17Z</dcterms:modified>
  <cp:revision>36</cp:revision>
  <dc:subject/>
  <dc:title>Section 5.1</dc:title>
</cp:coreProperties>
</file>